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ACA-D796-49BA-B34C-F29BCA47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5E2-D08F-4A79-A27D-A5D5739A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F2B-EBA6-4319-B0EC-5B970B01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BE5-5F81-422E-9F07-FE235D95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408-2038-4CDB-85DA-5D76E30E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CC6-DDBA-448D-9A27-95AA2C19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D54-7DB1-4264-838E-DA018908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2E2-D619-4A59-B761-A72E8F8A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62F-D49B-4A80-AC70-D6D16FE3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6A5-9835-44E1-92D7-511E802A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E17-DFC0-4201-B694-39782438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A74-BE59-4E10-9681-28402BE9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CD12-A363-4579-BFDD-8C700923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farm1.static.flickr.com/215/505972705_0fe20f68f1.jpg&amp;imgrefurl=http://mexicodailyphoto.blogspot.com/2007_09_01_archive.html&amp;h=375&amp;w=500&amp;sz=176&amp;tbnid=jf4b_iCMMWQJ::&amp;tbnh=98&amp;tbnw=130&amp;prev=/images%3Fq%3Dartesania%2Bmexico%2B:%2Bimages&amp;hl=en&amp;usg=__FIecH6qUaJvHHosNr02B4CBClV8=&amp;sa=X&amp;oi=image_result&amp;resnum=2&amp;ct=image&amp;cd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m/imgres?imgurl=http://iifaem.files.wordpress.com/2007/11/arbol-de-artesanias-iifaem.jpg&amp;imgrefurl=http://iifaem.wordpress.com/2007/11/13/alfareria-y-ceramica/&amp;h=1147&amp;w=995&amp;sz=305&amp;tbnid=YYvjx_0MgBcJ::&amp;tbnh=150&amp;tbnw=130&amp;prev=/images%3Fq%3Dartesania%2Bmexico%2B:%2Bimages&amp;hl=en&amp;usg=__lBged9L268enwQ0k-gAdQdpAXG0=&amp;sa=X&amp;oi=image_result&amp;resnum=1&amp;ct=image&amp;cd=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ontheroadin.com/miscellasneouspictures/dnacerb2.jpg&amp;imgrefurl=http://www.ontheroadin.com/miscellasneouspictures/ballet_folklorico.htm&amp;h=466&amp;w=622&amp;sz=52&amp;tbnid=S61mF99bTgIJ::&amp;tbnh=102&amp;tbnw=136&amp;prev=/images%3Fq%3Dballet%2Bfolklorico%2Bmexico%2B:%2Bimages&amp;hl=en&amp;usg=__lvmmKDQwQy6IjVq5Jx9tGEDz3GI=&amp;sa=X&amp;oi=image_result&amp;resnum=3&amp;ct=image&amp;cd=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enochtitlan.com/img_5r3j7u2zf6/IMG_8150-mc-1024-076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/imgres?imgurl=http://www.yorkblog.com/explorer/img/cemetery.jpg&amp;imgrefurl=http://www.yorkblog.com/explorer/2007/10/&amp;h=1664&amp;w=2496&amp;sz=346&amp;tbnid=fL-keEaQeqEJ::&amp;tbnh=100&amp;tbnw=150&amp;prev=/images%3Fq%3Dcemetery%2Bdia%2Bde%2Blos%2Bmuertos%2Bmexico%2B:%2Bimages&amp;hl=en&amp;usg=__2KY932wSZQx5lgHmSi5r19yVSz8=&amp;sa=X&amp;oi=image_result&amp;resnum=4&amp;ct=image&amp;cd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reformation.org/president-bush-sombrero.jpg&amp;imgrefurl=http://www.reformation.org/washington-mexican-lobby.html&amp;h=180&amp;w=174&amp;sz=9&amp;tbnid=f58CwZnWK9MJ::&amp;tbnh=101&amp;tbnw=98&amp;prev=/images%3Fq%3Dpresident%2Bmexico%2B:%2Bimages&amp;hl=en&amp;usg=__BUq_oHxQsRWu86WiLYPkYUD67LI=&amp;sa=X&amp;oi=image_result&amp;resnum=4&amp;ct=image&amp;cd=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/imgres?imgurl=http://mexico.vg/wp-content/uploads/2008/02/felipe-calderon.jpg&amp;imgrefurl=http://www.mexico.vg/mexico/mexico-president-felipe-calderon/78&amp;h=240&amp;w=320&amp;sz=8&amp;tbnid=-heT1hG89JIJ::&amp;tbnh=89&amp;tbnw=118&amp;prev=/images%3Fq%3Dpresident%2Bmexico%2B:%2Bimages&amp;hl=en&amp;usg=__rmidPbtpbH2Z14-BECBYc6759EU=&amp;sa=X&amp;oi=image_result&amp;resnum=1&amp;ct=image&amp;cd=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aes.iupui.edu/rwise/banknotes/uruguay/UruguayP56-1NuevoPesoOn1000Pesos-(1975)-donatedpr_f.jpg&amp;imgrefurl=http://aes.iupui.edu/rwise/countries/uruguay.html&amp;h=263&amp;w=576&amp;sz=75&amp;tbnid=McWl1XDOonIJ::&amp;tbnh=61&amp;tbnw=134&amp;prev=/images%3Fq%3Dpeso%2Bnuevo%2Bmexico%2B:%2Bimages&amp;hl=en&amp;usg=__WmQGz18NrT3PhyCGQhf9POMepFE=&amp;sa=X&amp;oi=image_result&amp;resnum=2&amp;ct=image&amp;cd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farm4.static.flickr.com/3006/2778896870_41c7d39e63_o.jpg&amp;imgrefurl=http://www.geocities.com/alaingarcia.geo/conozca/monedas.htm&amp;h=320&amp;w=320&amp;sz=35&amp;tbnid=rW1qehf8Cs4J::&amp;tbnh=118&amp;tbnw=118&amp;prev=/images%3Fq%3Dmoneda%2Bnuevo%2Bmexico%2B:%2Bimages&amp;hl=en&amp;usg=__3-41XlFFnHP9SnL7N00qOpXyNxw=&amp;sa=X&amp;oi=image_result&amp;resnum=3&amp;ct=image&amp;cd=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 Trip to Me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MAP OF MEXICO"/>
          <p:cNvPicPr/>
          <p:nvPr/>
        </p:nvPicPr>
        <p:blipFill>
          <a:blip r:embed="rId1"/>
          <a:stretch/>
        </p:blipFill>
        <p:spPr>
          <a:xfrm>
            <a:off x="1295280" y="1752480"/>
            <a:ext cx="6477120" cy="448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36960" y="617220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exconnect.com/mex_/mapm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went to the main square, or Zócalo in Mexico City. It was hug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El Zócalo"/>
          <p:cNvPicPr/>
          <p:nvPr/>
        </p:nvPicPr>
        <p:blipFill>
          <a:blip r:embed="rId1"/>
          <a:stretch/>
        </p:blipFill>
        <p:spPr>
          <a:xfrm>
            <a:off x="1676520" y="1600200"/>
            <a:ext cx="567684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18560" y="617220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delange.org/Zocalo/Zocal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had so much fun at the Cinco de Mayo reinactme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Getty Images - Celebración del 5 de Mayo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3940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08000" y="6019920"/>
            <a:ext cx="56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terra.com/turismo/articulo/html/tur334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went to the market and sa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http://mexicodailyphoto.blogspot.com/2007_09_01_archive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743200"/>
            <a:ext cx="3124440" cy="2354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http://iifaem.wordpress.com/2007/11/13/alfareria-y-ceramica/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76520"/>
            <a:ext cx="3433680" cy="3962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44560" y="6491160"/>
            <a:ext cx="76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artesania+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experience was great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¡Viva Méxic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http://www.ontheroadin.com/miscellasneouspictures/ballet_folklorico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9051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400" y="6172200"/>
            <a:ext cx="82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ballet+folklorico+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-Moctezuma’s Head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enacho de Moctezuma (Motecuhzoma Xocoyotzin); (Headdress of Moctezuma - replic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3716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6600" y="60958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tenochtitlan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lture-Mole and Day of the D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Mole Poblano de Pollo"/>
          <p:cNvPicPr/>
          <p:nvPr/>
        </p:nvPicPr>
        <p:blipFill>
          <a:blip r:embed="rId1"/>
          <a:stretch/>
        </p:blipFill>
        <p:spPr>
          <a:xfrm>
            <a:off x="0" y="1295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02920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google.com/imgres?imgurl=http://farm3.static.flickr.com/2415/2142019463_43efce22f0.jpg&amp;imgrefurl=http://eatbma.blogspot.com/2007/12/fonda-de-santa-clara-puebla-mexico.html&amp;h=375&amp;w=500&amp;sz=160&amp;tbnid=L6DaaxPhV1EJ::&amp;tbnh=98&amp;tbnw=130&amp;prev=/images%3Fq%3Dmole%2Bpoblano%2Bmexico%2B:%2Bimages&amp;hl=en&amp;usg=__pV4d-EcT297ocuDU_Ogz4CjjacQ=&amp;sa=X&amp;oi=image_result&amp;resnum=1&amp;ct=image&amp;cd=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http://www.yorkblog.com/explorer/2007/10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1593720"/>
            <a:ext cx="4267080" cy="284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5867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sa=X&amp;oi=spell&amp;resnum=0&amp;ct=result&amp;cd=1&amp;q=cemetery+dia+de+los+muertos+mexico+%3A+images&amp;spel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urrent Presi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http://www.reformation.org/washington-mexican-lobby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590920"/>
            <a:ext cx="3002040" cy="3095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0880" y="6172200"/>
            <a:ext cx="76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president+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http://www.mexico.vg/mexico/mexico-president-felipe-calderon/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371600"/>
            <a:ext cx="3886200" cy="293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46960" y="449568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’s new presi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8960" y="563868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esident  we wish we never h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4560" y="6491160"/>
            <a:ext cx="76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president+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cy &amp; Exchang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http://aes.iupui.edu/rwise/countries/uruguay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981080"/>
            <a:ext cx="3962160" cy="180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44920" y="601992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peso+nuevo+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ttp://www.geocities.com/alaingarcia.geo/conozca/monedas.ht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352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eroMéxico F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http://defence-data.com/paris2007/page200.htm"/>
          <p:cNvPicPr/>
          <p:nvPr/>
        </p:nvPicPr>
        <p:blipFill>
          <a:blip r:embed="rId1"/>
          <a:stretch/>
        </p:blipFill>
        <p:spPr>
          <a:xfrm>
            <a:off x="762120" y="1676520"/>
            <a:ext cx="3962160" cy="297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9480" y="5867280"/>
            <a:ext cx="70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aero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http://gspence1173.wordpress.com/2007/03/27/gonzales-dismisses-wife-reappoints-new-children/"/>
          <p:cNvPicPr/>
          <p:nvPr/>
        </p:nvPicPr>
        <p:blipFill>
          <a:blip r:embed="rId2"/>
          <a:stretch/>
        </p:blipFill>
        <p:spPr>
          <a:xfrm>
            <a:off x="5486400" y="2971800"/>
            <a:ext cx="2981160" cy="156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2440" y="6172200"/>
            <a:ext cx="70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plane+ticket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incess Hotel-Acapu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The Princess Hotel&#13;&#13;&#10;Acapulco &#13;&#13;&#10;Mexico (2574-516 / )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435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52960" y="617220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uperstock.com/stock-photos-images/2574-5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ent to see Diego Rivera’s mural of Mexican History in the National Pa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Diego Rivera"/>
          <p:cNvPicPr/>
          <p:nvPr/>
        </p:nvPicPr>
        <p:blipFill>
          <a:blip r:embed="rId1"/>
          <a:stretch/>
        </p:blipFill>
        <p:spPr>
          <a:xfrm>
            <a:off x="2133720" y="1752480"/>
            <a:ext cx="4800600" cy="3922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72800" y="6172200"/>
            <a:ext cx="72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exconnect.com/mex_/travel/jcummings/diegomural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ent to the ancient Mayan city of Chichen Itza and saw the Temple of Kulkulkha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4200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01040" y="6172200"/>
            <a:ext cx="63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experience.com/inmexico/photos/10chich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9:05:56Z</dcterms:created>
  <dc:creator>Director Of Technology</dc:creator>
  <dc:description/>
  <dc:language>en-US</dc:language>
  <cp:lastModifiedBy>Director Of Technology</cp:lastModifiedBy>
  <dcterms:modified xsi:type="dcterms:W3CDTF">2008-12-11T20:11:07Z</dcterms:modified>
  <cp:revision>4</cp:revision>
  <dc:subject/>
  <dc:title>My Trip to Mexico</dc:title>
</cp:coreProperties>
</file>